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2C45-8C7D-4458-8A9E-532E196F9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B90C-AE18-40AF-8E2A-4BF0DD859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F67D-7DA0-4A55-9CA2-8AAD51322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9092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8684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36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9092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8684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1D29-BBB2-4FAA-BB47-46DC36AA4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E3C2D-0030-4C9A-B895-7ACAB59E0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132F7-BA01-4A9C-B912-4E55B8D58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88CF5-172F-472B-941E-D7255AD9A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00E9D-8B41-40B4-8F27-D647FC4CD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7AE7F-416F-42A2-B489-538CBA9D2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39200" y="228240"/>
            <a:ext cx="8888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9F16E-7690-4A5E-B53F-44BBFD5C4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9CB64-2E21-469C-8EE0-ADB8F6EC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026F-766A-4D8A-B50A-8E4AC01CC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04F6B-FB95-42AF-8CD0-897A7C4B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9C3E4-1E27-4961-8763-B7D0938E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8B2CC-3514-4FCE-98AE-9410074AD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D90A5-A64D-47F3-A229-216147CE6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9092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8684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36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9092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8684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4581F-90C1-4EB9-AE01-0340B7B73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297F-95EF-4220-97FF-29EAD57CD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69F6-EC0A-4211-88A0-F46ED9EA5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E973-6EBA-47EE-92C5-EFB7BD41A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39200" y="228240"/>
            <a:ext cx="8888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F3FF-E9C5-4380-A200-D918699CB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6A04-F443-4990-B6F0-D83F7361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CAE4-F4B5-4FE6-B365-C08E967F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1223-8A48-4947-99A6-51F949F5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360" y="6400800"/>
            <a:ext cx="15955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45960" y="6400800"/>
            <a:ext cx="60260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Instructor’s Guide for  Coulouris, Dollimore and Kindberg   Distributed Systems: Concepts and Design   Edn. 3  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©  Addison-Wesley Publishers 2000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54800" y="6400800"/>
            <a:ext cx="109980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B3C3B-19D8-4148-B236-E52EB48AE5B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95360" y="1143000"/>
            <a:ext cx="883296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70040" y="6229080"/>
            <a:ext cx="2092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411360" y="6229080"/>
            <a:ext cx="308304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154640" y="6229080"/>
            <a:ext cx="19810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05C17-5A0D-4611-8ED6-67363728D2C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5360" y="2590920"/>
            <a:ext cx="883296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Slides for Chapter 8: 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Distributed File Systems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641320" y="2895480"/>
            <a:ext cx="693396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From</a:t>
            </a:r>
            <a:r>
              <a:rPr b="0" lang="en-GB" sz="2400" spc="-1" strike="noStrike">
                <a:solidFill>
                  <a:srgbClr val="663300"/>
                </a:solidFill>
                <a:latin typeface="Arial Black"/>
              </a:rPr>
              <a:t> Coulouris, Dollimore and Kindberg</a:t>
            </a:r>
            <a:br>
              <a:rPr sz="2400"/>
            </a:b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Distributed Systems: </a:t>
            </a:r>
            <a:br>
              <a:rPr sz="2800"/>
            </a:b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Concepts and Design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Edition 3, © Addison-Wesley 2001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95360" y="2895480"/>
            <a:ext cx="1933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8.9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FS server operations (simplified) – 1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856440" y="1457280"/>
            <a:ext cx="8344800" cy="4666680"/>
            <a:chOff x="856440" y="1457280"/>
            <a:chExt cx="8344800" cy="4666680"/>
          </a:xfrm>
        </p:grpSpPr>
        <p:sp>
          <p:nvSpPr>
            <p:cNvPr id="492" name=""/>
            <p:cNvSpPr/>
            <p:nvPr/>
          </p:nvSpPr>
          <p:spPr>
            <a:xfrm>
              <a:off x="955080" y="1539720"/>
              <a:ext cx="2192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Times New Roman"/>
                </a:rPr>
                <a:t>lookup(dirfh, name) -&gt; fh, at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707640" y="1539720"/>
              <a:ext cx="5433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s file handle and attributes for the file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 the director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695760" y="1752480"/>
              <a:ext cx="44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dirfh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158000" y="1752480"/>
              <a:ext cx="10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957600" y="2082960"/>
              <a:ext cx="196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Times New Roman"/>
                </a:rPr>
                <a:t>create(dirfh, name, attr) -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732400" y="20829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57960" y="20448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006640" y="2276640"/>
              <a:ext cx="777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Times New Roman"/>
                </a:rPr>
                <a:t>newfh, at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704400" y="2082960"/>
              <a:ext cx="529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reates a new file name in directory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dirfh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with attributes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attr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650400" y="2295360"/>
              <a:ext cx="336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s the new file handle and attribut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61120" y="2624040"/>
              <a:ext cx="198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Times New Roman"/>
                </a:rPr>
                <a:t>remove(dirfh, name)  stat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704040" y="2625840"/>
              <a:ext cx="3289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Removes file name from directory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dirfh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60400" y="2954160"/>
              <a:ext cx="1268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Times New Roman"/>
                </a:rPr>
                <a:t>getattr(fh) -&gt; at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711240" y="2954160"/>
              <a:ext cx="5343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Returns file attributes of file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fh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. (Similar to the UNIX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stat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syste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732480" y="3166920"/>
              <a:ext cx="41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l.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59320" y="3497400"/>
              <a:ext cx="1598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Times New Roman"/>
                </a:rPr>
                <a:t>setattr(fh, attr) -&gt; at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687840" y="3382920"/>
              <a:ext cx="5464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ts th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ttributes (mode, user id, group id, size, access time 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668040" y="3710160"/>
              <a:ext cx="489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odify time of a file). Setting the size to 0 truncates the fil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56440" y="4038480"/>
              <a:ext cx="2492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Times New Roman"/>
                </a:rPr>
                <a:t>read(fh, offset, count) -&gt; attr, 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707280" y="4038480"/>
              <a:ext cx="4988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s up to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bytes of data from a file starting at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offs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685320" y="4253040"/>
              <a:ext cx="347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lso returns the latest attributes of the fil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856440" y="4581360"/>
              <a:ext cx="2532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Times New Roman"/>
                </a:rPr>
                <a:t>write(fh, offset, count, data) -&gt; at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708000" y="4581360"/>
              <a:ext cx="518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rites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bytes of data to a file starting at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offse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Returns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650400" y="4794120"/>
              <a:ext cx="4121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ttributes of the file after the write has taken pla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857880" y="5124600"/>
              <a:ext cx="2676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Times New Roman"/>
                </a:rPr>
                <a:t>rename(dirfh, name, todirfh, tonam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987920" y="5318280"/>
              <a:ext cx="645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-&gt; stat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702960" y="5124600"/>
              <a:ext cx="5025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hanges the name of file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in directory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dirfh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to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toname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698280" y="5337000"/>
              <a:ext cx="1547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directory to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todirf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025960" y="53370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858600" y="5665680"/>
              <a:ext cx="2705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Times New Roman"/>
                </a:rPr>
                <a:t>link(newdirfh, newname, dirfh, nam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679560" y="5665680"/>
              <a:ext cx="89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987920" y="5859360"/>
              <a:ext cx="645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-&gt; stat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704400" y="5667480"/>
              <a:ext cx="546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reates an entry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newname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in the directory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newdirfh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which refers 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700800" y="5880240"/>
              <a:ext cx="2548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file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in the directory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dirfh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71560" y="1457280"/>
              <a:ext cx="8329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7385400" y="6056280"/>
            <a:ext cx="251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Continues on next slide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8.9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FS server operations (simplified) – 2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728880" y="1530360"/>
            <a:ext cx="208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780840" y="1620720"/>
            <a:ext cx="8460360" cy="4542120"/>
            <a:chOff x="780840" y="1620720"/>
            <a:chExt cx="8460360" cy="4542120"/>
          </a:xfrm>
        </p:grpSpPr>
        <p:sp>
          <p:nvSpPr>
            <p:cNvPr id="531" name=""/>
            <p:cNvSpPr/>
            <p:nvPr/>
          </p:nvSpPr>
          <p:spPr>
            <a:xfrm>
              <a:off x="809640" y="6162840"/>
              <a:ext cx="839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81920" y="1620720"/>
              <a:ext cx="2746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500" spc="-1" strike="noStrike">
                  <a:solidFill>
                    <a:srgbClr val="000000"/>
                  </a:solidFill>
                  <a:latin typeface="Times New Roman"/>
                </a:rPr>
                <a:t>symlink(newdirfh, newname, string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84080" y="1824120"/>
              <a:ext cx="1602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-&gt; statu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765240" y="1622520"/>
              <a:ext cx="4822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reates an entry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newname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in the directory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newdirfh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of ty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768480" y="1846440"/>
              <a:ext cx="527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ymbolic link with the value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The server does not interpr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767400" y="2070000"/>
              <a:ext cx="4112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but makes a symbolic link file to hold i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81200" y="2414520"/>
              <a:ext cx="1649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500" spc="-1" strike="noStrike">
                  <a:solidFill>
                    <a:srgbClr val="000000"/>
                  </a:solidFill>
                  <a:latin typeface="Times New Roman"/>
                </a:rPr>
                <a:t>readlink(fh) -&gt; str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769920" y="2416320"/>
              <a:ext cx="506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s the string that is associated with the symbolic link fi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760920" y="2639880"/>
              <a:ext cx="1293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identified by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fh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83000" y="2984400"/>
              <a:ext cx="21128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500" spc="-1" strike="noStrike">
                  <a:solidFill>
                    <a:srgbClr val="000000"/>
                  </a:solidFill>
                  <a:latin typeface="Times New Roman"/>
                </a:rPr>
                <a:t>mkdir(dirfh, name, attr) -&gt; </a:t>
              </a:r>
              <a:br>
                <a:rPr sz="1500"/>
              </a:br>
              <a:r>
                <a:rPr b="0" i="1" lang="en-GB" sz="15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GB" sz="1500" spc="-1" strike="noStrike">
                  <a:solidFill>
                    <a:srgbClr val="000000"/>
                  </a:solidFill>
                  <a:latin typeface="Times New Roman"/>
                </a:rPr>
                <a:t>newfh, att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769200" y="2986200"/>
              <a:ext cx="523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reates a new directory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with attributes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attr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and returns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5480" y="3209760"/>
              <a:ext cx="2452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ew file handle and attribut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81560" y="3554280"/>
              <a:ext cx="2180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500" spc="-1" strike="noStrike">
                  <a:solidFill>
                    <a:srgbClr val="000000"/>
                  </a:solidFill>
                  <a:latin typeface="Times New Roman"/>
                </a:rPr>
                <a:t>rmdir(dirfh, name) -&gt; statu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769920" y="3556080"/>
              <a:ext cx="54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Removes the empty directory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from the parent directory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dirfh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837600" y="3780000"/>
              <a:ext cx="2756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ails if the directory is not empt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80840" y="4124160"/>
              <a:ext cx="24742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500" spc="-1" strike="noStrike">
                  <a:solidFill>
                    <a:srgbClr val="000000"/>
                  </a:solidFill>
                  <a:latin typeface="Times New Roman"/>
                </a:rPr>
                <a:t>readdir(dirfh, cookie, count) -&gt; </a:t>
              </a:r>
              <a:br>
                <a:rPr sz="1500"/>
              </a:br>
              <a:r>
                <a:rPr b="0" i="1" lang="en-GB" sz="15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GB" sz="1500" spc="-1" strike="noStrike">
                  <a:solidFill>
                    <a:srgbClr val="000000"/>
                  </a:solidFill>
                  <a:latin typeface="Times New Roman"/>
                </a:rPr>
                <a:t>entri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769560" y="4125960"/>
              <a:ext cx="519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s up to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bytes of directory entries from the direct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69200" y="4349880"/>
              <a:ext cx="5427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dirfh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. Each entry contains a file name, a file handle, and an opaq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69920" y="4573440"/>
              <a:ext cx="5224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ointer to the next directory entry, called a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cooki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The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cooki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767760" y="4797360"/>
              <a:ext cx="5473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used in subsequent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readdir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calls to start reading from the follow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773520" y="5022720"/>
              <a:ext cx="5203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ntry. If the value of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cooki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0, reads from the first entry in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794760" y="5246640"/>
              <a:ext cx="784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rector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80840" y="5591160"/>
              <a:ext cx="1450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500" spc="-1" strike="noStrike">
                  <a:solidFill>
                    <a:srgbClr val="000000"/>
                  </a:solidFill>
                  <a:latin typeface="Times New Roman"/>
                </a:rPr>
                <a:t>statfs(fh) -&gt; fsstat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770280" y="5592600"/>
              <a:ext cx="509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s file system information (such as block size, number o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770280" y="5816520"/>
              <a:ext cx="4943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free blocks and so on) for the file system containing a file </a:t>
              </a: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fh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3728880" y="6091200"/>
            <a:ext cx="2088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8.10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ocal and remote file systems accessible on an NFS clien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1"/>
          <a:stretch/>
        </p:blipFill>
        <p:spPr>
          <a:xfrm>
            <a:off x="638280" y="1503360"/>
            <a:ext cx="8618400" cy="362412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/>
          <p:nvPr/>
        </p:nvSpPr>
        <p:spPr>
          <a:xfrm>
            <a:off x="648720" y="5398920"/>
            <a:ext cx="883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Note: The file system mounted at 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/usr/students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in the client is actually the sub-tree located at 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/export/people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in Server 1;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the file system mounted at 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/usr/staff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in the client is actually the sub-tree located at 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/nfs/users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in Server 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8.1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istribution of processes in the Andrew File System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1"/>
          <a:stretch/>
        </p:blipFill>
        <p:spPr>
          <a:xfrm>
            <a:off x="1347840" y="1386000"/>
            <a:ext cx="734364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8.12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le name space seen by clients of AF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155600" y="1467000"/>
            <a:ext cx="7554960" cy="46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8.13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ystem call interception in AF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1114560" y="1542960"/>
            <a:ext cx="784512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8.14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mplementation of file system calls in AF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602080" y="6262560"/>
            <a:ext cx="5092560" cy="5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1930320" y="1254240"/>
            <a:ext cx="627372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8.15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e main components of the Vice service interfac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722160" y="1743120"/>
            <a:ext cx="8494920" cy="4305240"/>
            <a:chOff x="722160" y="1743120"/>
            <a:chExt cx="8494920" cy="4305240"/>
          </a:xfrm>
        </p:grpSpPr>
        <p:sp>
          <p:nvSpPr>
            <p:cNvPr id="571" name=""/>
            <p:cNvSpPr/>
            <p:nvPr/>
          </p:nvSpPr>
          <p:spPr>
            <a:xfrm>
              <a:off x="781920" y="1797120"/>
              <a:ext cx="2117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Fetch(fid) -&gt; attr, 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175920" y="1797120"/>
              <a:ext cx="5958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turns the attributes (status) and, optionally, the contents of 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175920" y="2049480"/>
              <a:ext cx="5234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identified by the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fid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and records a callback promise on it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82640" y="2392200"/>
              <a:ext cx="184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Store(fid, attr, dat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176280" y="2392200"/>
              <a:ext cx="5982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pdates the attributes and (optionally) the contents of a specifi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243960" y="2643120"/>
              <a:ext cx="36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ile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83720" y="2986200"/>
              <a:ext cx="1364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Create() -&gt; f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176640" y="2986200"/>
              <a:ext cx="5080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Creates a new file and records a callback promise on it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84080" y="3328920"/>
              <a:ext cx="1121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Remove(fid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219840" y="3328920"/>
              <a:ext cx="2333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eletes the specified file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83720" y="3673440"/>
              <a:ext cx="173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SetLock(fid, mod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175200" y="3673440"/>
              <a:ext cx="5628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ets a lock on the specified file or directory. The mode of t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176280" y="3924360"/>
              <a:ext cx="5633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k may be shared or exclusive. Locks that are not remove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239640" y="4175280"/>
              <a:ext cx="21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xpire after 30 minutes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83720" y="4518000"/>
              <a:ext cx="1553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ReleaseLock(fid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211200" y="4518000"/>
              <a:ext cx="3542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nlocks the specified file or directory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83360" y="4862520"/>
              <a:ext cx="1948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RemoveCallback(fid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178800" y="4862520"/>
              <a:ext cx="5685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forms server that a Venus process has flushed a file from i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227040" y="5113440"/>
              <a:ext cx="581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che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83360" y="5456160"/>
              <a:ext cx="1770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BreakCallback(fid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175920" y="5456160"/>
              <a:ext cx="5887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his call is made by a Vice server to a Venus process. It cance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178080" y="5707080"/>
              <a:ext cx="3743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the callback promise on the relevant file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22160" y="6048360"/>
              <a:ext cx="847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38360" y="1743120"/>
              <a:ext cx="847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8.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torage systems and their propertie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29360" y="1901880"/>
            <a:ext cx="646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ha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0240" y="190188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Persis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59520" y="2114640"/>
            <a:ext cx="42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26680" y="1901880"/>
            <a:ext cx="927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istribu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027040" y="2114640"/>
            <a:ext cx="1186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ache/repl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365880" y="1901880"/>
            <a:ext cx="983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nsist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365880" y="2114640"/>
            <a:ext cx="1040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inte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556400" y="1901880"/>
            <a:ext cx="71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09200" y="2540160"/>
            <a:ext cx="1154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in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556400" y="2603520"/>
            <a:ext cx="46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08840" y="2986200"/>
            <a:ext cx="930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559640" y="2986200"/>
            <a:ext cx="144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IX file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11000" y="3348000"/>
            <a:ext cx="184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tributed file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555680" y="3348000"/>
            <a:ext cx="739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n NF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05960" y="3751200"/>
            <a:ext cx="38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57840" y="3666960"/>
            <a:ext cx="930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11000" y="4156200"/>
            <a:ext cx="2221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tributed shared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556760" y="4156200"/>
            <a:ext cx="999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vy (Ch. 1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10280" y="4559400"/>
            <a:ext cx="2298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mote objects (RMI/OR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554960" y="4559400"/>
            <a:ext cx="700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RB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0280" y="4964040"/>
            <a:ext cx="178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rsistent object s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24440" y="496260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57120" y="4964040"/>
            <a:ext cx="1540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RBA Persist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58560" y="5176800"/>
            <a:ext cx="1200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ject 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8760" y="5537160"/>
            <a:ext cx="2544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ersistent distributed object sto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558200" y="5537160"/>
            <a:ext cx="1396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erDiS, Khaz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770280" y="2660760"/>
            <a:ext cx="126720" cy="126720"/>
            <a:chOff x="3770280" y="2660760"/>
            <a:chExt cx="126720" cy="126720"/>
          </a:xfrm>
        </p:grpSpPr>
        <p:sp>
          <p:nvSpPr>
            <p:cNvPr id="115" name=""/>
            <p:cNvSpPr/>
            <p:nvPr/>
          </p:nvSpPr>
          <p:spPr>
            <a:xfrm>
              <a:off x="3770280" y="2660760"/>
              <a:ext cx="126720" cy="1267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3770280" y="2660760"/>
              <a:ext cx="126720" cy="1267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4444920" y="2651040"/>
            <a:ext cx="126720" cy="126720"/>
            <a:chOff x="4444920" y="2651040"/>
            <a:chExt cx="126720" cy="126720"/>
          </a:xfrm>
        </p:grpSpPr>
        <p:sp>
          <p:nvSpPr>
            <p:cNvPr id="118" name=""/>
            <p:cNvSpPr/>
            <p:nvPr/>
          </p:nvSpPr>
          <p:spPr>
            <a:xfrm>
              <a:off x="4444920" y="2651040"/>
              <a:ext cx="126720" cy="1267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4444920" y="2651040"/>
              <a:ext cx="126720" cy="1267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380200" y="2641680"/>
            <a:ext cx="126720" cy="126720"/>
            <a:chOff x="5380200" y="2641680"/>
            <a:chExt cx="126720" cy="126720"/>
          </a:xfrm>
        </p:grpSpPr>
        <p:sp>
          <p:nvSpPr>
            <p:cNvPr id="121" name=""/>
            <p:cNvSpPr/>
            <p:nvPr/>
          </p:nvSpPr>
          <p:spPr>
            <a:xfrm>
              <a:off x="5380200" y="2641680"/>
              <a:ext cx="126720" cy="1267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5380200" y="2641680"/>
              <a:ext cx="126720" cy="1267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3782880" y="3035160"/>
            <a:ext cx="126720" cy="126720"/>
            <a:chOff x="3782880" y="3035160"/>
            <a:chExt cx="126720" cy="126720"/>
          </a:xfrm>
        </p:grpSpPr>
        <p:sp>
          <p:nvSpPr>
            <p:cNvPr id="124" name=""/>
            <p:cNvSpPr/>
            <p:nvPr/>
          </p:nvSpPr>
          <p:spPr>
            <a:xfrm>
              <a:off x="3782880" y="3035160"/>
              <a:ext cx="126720" cy="1267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3782880" y="3035160"/>
              <a:ext cx="126720" cy="1267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38800" y="3019320"/>
            <a:ext cx="126360" cy="133560"/>
            <a:chOff x="4438800" y="3019320"/>
            <a:chExt cx="126360" cy="133560"/>
          </a:xfrm>
        </p:grpSpPr>
        <p:sp>
          <p:nvSpPr>
            <p:cNvPr id="127" name=""/>
            <p:cNvSpPr/>
            <p:nvPr/>
          </p:nvSpPr>
          <p:spPr>
            <a:xfrm>
              <a:off x="4438800" y="3101760"/>
              <a:ext cx="12600" cy="381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4457520" y="3019320"/>
              <a:ext cx="107640" cy="1335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392800" y="3016080"/>
            <a:ext cx="126720" cy="126720"/>
            <a:chOff x="5392800" y="3016080"/>
            <a:chExt cx="126720" cy="126720"/>
          </a:xfrm>
        </p:grpSpPr>
        <p:sp>
          <p:nvSpPr>
            <p:cNvPr id="130" name=""/>
            <p:cNvSpPr/>
            <p:nvPr/>
          </p:nvSpPr>
          <p:spPr>
            <a:xfrm>
              <a:off x="5392800" y="3016080"/>
              <a:ext cx="126720" cy="1267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5392800" y="3016080"/>
              <a:ext cx="126720" cy="1267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4444920" y="3394080"/>
            <a:ext cx="126360" cy="133200"/>
            <a:chOff x="4444920" y="3394080"/>
            <a:chExt cx="126360" cy="133200"/>
          </a:xfrm>
        </p:grpSpPr>
        <p:sp>
          <p:nvSpPr>
            <p:cNvPr id="133" name=""/>
            <p:cNvSpPr/>
            <p:nvPr/>
          </p:nvSpPr>
          <p:spPr>
            <a:xfrm>
              <a:off x="4444920" y="3476160"/>
              <a:ext cx="12600" cy="378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4463640" y="3394080"/>
              <a:ext cx="107640" cy="1332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3781440" y="3400560"/>
            <a:ext cx="126360" cy="133200"/>
            <a:chOff x="3781440" y="3400560"/>
            <a:chExt cx="126360" cy="133200"/>
          </a:xfrm>
        </p:grpSpPr>
        <p:sp>
          <p:nvSpPr>
            <p:cNvPr id="136" name=""/>
            <p:cNvSpPr/>
            <p:nvPr/>
          </p:nvSpPr>
          <p:spPr>
            <a:xfrm>
              <a:off x="3781440" y="3482640"/>
              <a:ext cx="12600" cy="378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3800160" y="3400560"/>
              <a:ext cx="107640" cy="1332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5375160" y="3406680"/>
            <a:ext cx="126360" cy="133560"/>
            <a:chOff x="5375160" y="3406680"/>
            <a:chExt cx="126360" cy="133560"/>
          </a:xfrm>
        </p:grpSpPr>
        <p:sp>
          <p:nvSpPr>
            <p:cNvPr id="139" name=""/>
            <p:cNvSpPr/>
            <p:nvPr/>
          </p:nvSpPr>
          <p:spPr>
            <a:xfrm>
              <a:off x="5375160" y="3489120"/>
              <a:ext cx="12600" cy="381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5393880" y="3406680"/>
              <a:ext cx="107640" cy="1335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6711840" y="3413160"/>
            <a:ext cx="126360" cy="133200"/>
            <a:chOff x="6711840" y="3413160"/>
            <a:chExt cx="126360" cy="133200"/>
          </a:xfrm>
        </p:grpSpPr>
        <p:sp>
          <p:nvSpPr>
            <p:cNvPr id="142" name=""/>
            <p:cNvSpPr/>
            <p:nvPr/>
          </p:nvSpPr>
          <p:spPr>
            <a:xfrm>
              <a:off x="6711840" y="3495240"/>
              <a:ext cx="12600" cy="378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6730560" y="3413160"/>
              <a:ext cx="107640" cy="1332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4451400" y="3794040"/>
            <a:ext cx="126360" cy="133560"/>
            <a:chOff x="4451400" y="3794040"/>
            <a:chExt cx="126360" cy="133560"/>
          </a:xfrm>
        </p:grpSpPr>
        <p:sp>
          <p:nvSpPr>
            <p:cNvPr id="145" name=""/>
            <p:cNvSpPr/>
            <p:nvPr/>
          </p:nvSpPr>
          <p:spPr>
            <a:xfrm>
              <a:off x="4451400" y="3876480"/>
              <a:ext cx="12600" cy="381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4470120" y="3794040"/>
              <a:ext cx="107640" cy="1335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3787920" y="3800520"/>
            <a:ext cx="126360" cy="133200"/>
            <a:chOff x="3787920" y="3800520"/>
            <a:chExt cx="126360" cy="133200"/>
          </a:xfrm>
        </p:grpSpPr>
        <p:sp>
          <p:nvSpPr>
            <p:cNvPr id="148" name=""/>
            <p:cNvSpPr/>
            <p:nvPr/>
          </p:nvSpPr>
          <p:spPr>
            <a:xfrm>
              <a:off x="3787920" y="3882600"/>
              <a:ext cx="12600" cy="378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3806640" y="3800520"/>
              <a:ext cx="107640" cy="1332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381640" y="3807000"/>
            <a:ext cx="126360" cy="133200"/>
            <a:chOff x="5381640" y="3807000"/>
            <a:chExt cx="126360" cy="133200"/>
          </a:xfrm>
        </p:grpSpPr>
        <p:sp>
          <p:nvSpPr>
            <p:cNvPr id="151" name=""/>
            <p:cNvSpPr/>
            <p:nvPr/>
          </p:nvSpPr>
          <p:spPr>
            <a:xfrm>
              <a:off x="5381640" y="3889080"/>
              <a:ext cx="12600" cy="378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5400360" y="3807000"/>
              <a:ext cx="107640" cy="1332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794040" y="4200480"/>
            <a:ext cx="126360" cy="133560"/>
            <a:chOff x="3794040" y="4200480"/>
            <a:chExt cx="126360" cy="133560"/>
          </a:xfrm>
        </p:grpSpPr>
        <p:sp>
          <p:nvSpPr>
            <p:cNvPr id="154" name=""/>
            <p:cNvSpPr/>
            <p:nvPr/>
          </p:nvSpPr>
          <p:spPr>
            <a:xfrm>
              <a:off x="3794040" y="4282920"/>
              <a:ext cx="12600" cy="381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3812760" y="4200480"/>
              <a:ext cx="107640" cy="1335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5388120" y="4206960"/>
            <a:ext cx="126360" cy="133200"/>
            <a:chOff x="5388120" y="4206960"/>
            <a:chExt cx="126360" cy="133200"/>
          </a:xfrm>
        </p:grpSpPr>
        <p:sp>
          <p:nvSpPr>
            <p:cNvPr id="157" name=""/>
            <p:cNvSpPr/>
            <p:nvPr/>
          </p:nvSpPr>
          <p:spPr>
            <a:xfrm>
              <a:off x="5388120" y="4289040"/>
              <a:ext cx="12600" cy="378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5406840" y="4206960"/>
              <a:ext cx="107640" cy="1332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6711840" y="4213080"/>
            <a:ext cx="126360" cy="133560"/>
            <a:chOff x="6711840" y="4213080"/>
            <a:chExt cx="126360" cy="133560"/>
          </a:xfrm>
        </p:grpSpPr>
        <p:sp>
          <p:nvSpPr>
            <p:cNvPr id="160" name=""/>
            <p:cNvSpPr/>
            <p:nvPr/>
          </p:nvSpPr>
          <p:spPr>
            <a:xfrm>
              <a:off x="6711840" y="4295520"/>
              <a:ext cx="12600" cy="381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6730560" y="4213080"/>
              <a:ext cx="107640" cy="1335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800520" y="4600440"/>
            <a:ext cx="126360" cy="133560"/>
            <a:chOff x="3800520" y="4600440"/>
            <a:chExt cx="126360" cy="133560"/>
          </a:xfrm>
        </p:grpSpPr>
        <p:sp>
          <p:nvSpPr>
            <p:cNvPr id="163" name=""/>
            <p:cNvSpPr/>
            <p:nvPr/>
          </p:nvSpPr>
          <p:spPr>
            <a:xfrm>
              <a:off x="3800520" y="4682880"/>
              <a:ext cx="12600" cy="381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3819240" y="4600440"/>
              <a:ext cx="107640" cy="1335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4470480" y="4994280"/>
            <a:ext cx="126360" cy="133200"/>
            <a:chOff x="4470480" y="4994280"/>
            <a:chExt cx="126360" cy="133200"/>
          </a:xfrm>
        </p:grpSpPr>
        <p:sp>
          <p:nvSpPr>
            <p:cNvPr id="166" name=""/>
            <p:cNvSpPr/>
            <p:nvPr/>
          </p:nvSpPr>
          <p:spPr>
            <a:xfrm>
              <a:off x="4470480" y="5076360"/>
              <a:ext cx="12600" cy="378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4489200" y="4994280"/>
              <a:ext cx="107640" cy="1332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807000" y="5000760"/>
            <a:ext cx="126360" cy="133200"/>
            <a:chOff x="3807000" y="5000760"/>
            <a:chExt cx="126360" cy="133200"/>
          </a:xfrm>
        </p:grpSpPr>
        <p:sp>
          <p:nvSpPr>
            <p:cNvPr id="169" name=""/>
            <p:cNvSpPr/>
            <p:nvPr/>
          </p:nvSpPr>
          <p:spPr>
            <a:xfrm>
              <a:off x="3807000" y="5082840"/>
              <a:ext cx="12600" cy="378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3825720" y="5000760"/>
              <a:ext cx="107640" cy="1332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476600" y="5584680"/>
            <a:ext cx="126360" cy="133560"/>
            <a:chOff x="4476600" y="5584680"/>
            <a:chExt cx="126360" cy="133560"/>
          </a:xfrm>
        </p:grpSpPr>
        <p:sp>
          <p:nvSpPr>
            <p:cNvPr id="172" name=""/>
            <p:cNvSpPr/>
            <p:nvPr/>
          </p:nvSpPr>
          <p:spPr>
            <a:xfrm>
              <a:off x="4476600" y="5667120"/>
              <a:ext cx="12600" cy="381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4495320" y="5584680"/>
              <a:ext cx="107640" cy="1335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3120" y="5591160"/>
            <a:ext cx="126360" cy="133200"/>
            <a:chOff x="3813120" y="5591160"/>
            <a:chExt cx="126360" cy="133200"/>
          </a:xfrm>
        </p:grpSpPr>
        <p:sp>
          <p:nvSpPr>
            <p:cNvPr id="175" name=""/>
            <p:cNvSpPr/>
            <p:nvPr/>
          </p:nvSpPr>
          <p:spPr>
            <a:xfrm>
              <a:off x="3813120" y="5673240"/>
              <a:ext cx="12600" cy="378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3831840" y="5591160"/>
              <a:ext cx="107640" cy="1332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5407200" y="5597640"/>
            <a:ext cx="126360" cy="133200"/>
            <a:chOff x="5407200" y="5597640"/>
            <a:chExt cx="126360" cy="133200"/>
          </a:xfrm>
        </p:grpSpPr>
        <p:sp>
          <p:nvSpPr>
            <p:cNvPr id="178" name=""/>
            <p:cNvSpPr/>
            <p:nvPr/>
          </p:nvSpPr>
          <p:spPr>
            <a:xfrm>
              <a:off x="5407200" y="5679720"/>
              <a:ext cx="12600" cy="378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5425920" y="5597640"/>
              <a:ext cx="107640" cy="1332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6711840" y="5603760"/>
            <a:ext cx="126360" cy="133560"/>
            <a:chOff x="6711840" y="5603760"/>
            <a:chExt cx="126360" cy="133560"/>
          </a:xfrm>
        </p:grpSpPr>
        <p:sp>
          <p:nvSpPr>
            <p:cNvPr id="181" name=""/>
            <p:cNvSpPr/>
            <p:nvPr/>
          </p:nvSpPr>
          <p:spPr>
            <a:xfrm>
              <a:off x="6711840" y="5686200"/>
              <a:ext cx="12600" cy="381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6730560" y="5603760"/>
              <a:ext cx="107640" cy="1335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5380200" y="5016600"/>
            <a:ext cx="126720" cy="126720"/>
            <a:chOff x="5380200" y="5016600"/>
            <a:chExt cx="126720" cy="126720"/>
          </a:xfrm>
        </p:grpSpPr>
        <p:sp>
          <p:nvSpPr>
            <p:cNvPr id="184" name=""/>
            <p:cNvSpPr/>
            <p:nvPr/>
          </p:nvSpPr>
          <p:spPr>
            <a:xfrm>
              <a:off x="5380200" y="5016600"/>
              <a:ext cx="126720" cy="1267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5380200" y="5016600"/>
              <a:ext cx="126720" cy="1267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4437000" y="4203720"/>
            <a:ext cx="126720" cy="126720"/>
            <a:chOff x="4437000" y="4203720"/>
            <a:chExt cx="126720" cy="126720"/>
          </a:xfrm>
        </p:grpSpPr>
        <p:sp>
          <p:nvSpPr>
            <p:cNvPr id="187" name=""/>
            <p:cNvSpPr/>
            <p:nvPr/>
          </p:nvSpPr>
          <p:spPr>
            <a:xfrm>
              <a:off x="4437000" y="4203720"/>
              <a:ext cx="126720" cy="1267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4437000" y="4203720"/>
              <a:ext cx="126720" cy="1267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443480" y="4603680"/>
            <a:ext cx="126720" cy="126720"/>
            <a:chOff x="4443480" y="4603680"/>
            <a:chExt cx="126720" cy="126720"/>
          </a:xfrm>
        </p:grpSpPr>
        <p:sp>
          <p:nvSpPr>
            <p:cNvPr id="190" name=""/>
            <p:cNvSpPr/>
            <p:nvPr/>
          </p:nvSpPr>
          <p:spPr>
            <a:xfrm>
              <a:off x="4443480" y="4603680"/>
              <a:ext cx="126720" cy="1267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4443480" y="4603680"/>
              <a:ext cx="126720" cy="1267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5380200" y="4616280"/>
            <a:ext cx="126720" cy="126720"/>
            <a:chOff x="5380200" y="4616280"/>
            <a:chExt cx="126720" cy="126720"/>
          </a:xfrm>
        </p:grpSpPr>
        <p:sp>
          <p:nvSpPr>
            <p:cNvPr id="193" name=""/>
            <p:cNvSpPr/>
            <p:nvPr/>
          </p:nvSpPr>
          <p:spPr>
            <a:xfrm>
              <a:off x="5380200" y="4616280"/>
              <a:ext cx="126720" cy="1267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5380200" y="4616280"/>
              <a:ext cx="126720" cy="1267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6711840" y="3803760"/>
            <a:ext cx="126720" cy="126720"/>
            <a:chOff x="6711840" y="3803760"/>
            <a:chExt cx="126720" cy="126720"/>
          </a:xfrm>
        </p:grpSpPr>
        <p:sp>
          <p:nvSpPr>
            <p:cNvPr id="196" name=""/>
            <p:cNvSpPr/>
            <p:nvPr/>
          </p:nvSpPr>
          <p:spPr>
            <a:xfrm>
              <a:off x="6711840" y="3803760"/>
              <a:ext cx="126720" cy="1267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6711840" y="3803760"/>
              <a:ext cx="126720" cy="1267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6724440" y="457848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4440" y="297648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724440" y="259704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55560" y="5864400"/>
            <a:ext cx="853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55560" y="1787400"/>
            <a:ext cx="853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55560" y="2422440"/>
            <a:ext cx="853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8.2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le system module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7240" y="2125800"/>
            <a:ext cx="8609040" cy="28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8.3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le attribute record structur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2335320" y="1533600"/>
            <a:ext cx="5257800" cy="4576680"/>
            <a:chOff x="2335320" y="1533600"/>
            <a:chExt cx="5257800" cy="4576680"/>
          </a:xfrm>
        </p:grpSpPr>
        <p:sp>
          <p:nvSpPr>
            <p:cNvPr id="208" name=""/>
            <p:cNvSpPr/>
            <p:nvPr/>
          </p:nvSpPr>
          <p:spPr>
            <a:xfrm>
              <a:off x="2335320" y="1533600"/>
              <a:ext cx="5230800" cy="23702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335320" y="1533600"/>
              <a:ext cx="5257800" cy="2396880"/>
            </a:xfrm>
            <a:prstGeom prst="rect">
              <a:avLst/>
            </a:prstGeom>
            <a:noFill/>
            <a:ln w="3960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391640" y="1606680"/>
              <a:ext cx="1052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le leng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874680" y="1987560"/>
              <a:ext cx="1978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reation timestam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335320" y="1914480"/>
              <a:ext cx="5230800" cy="180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091760" y="2395440"/>
              <a:ext cx="1661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ad timestam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335320" y="2322360"/>
              <a:ext cx="5230800" cy="180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037040" y="2778120"/>
              <a:ext cx="1651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rite timestam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335320" y="2705040"/>
              <a:ext cx="5230800" cy="180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873600" y="3186000"/>
              <a:ext cx="1968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ttribute timestam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335320" y="3112920"/>
              <a:ext cx="5230800" cy="180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19120" y="3568680"/>
              <a:ext cx="1674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ference cou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335320" y="3495600"/>
              <a:ext cx="5230800" cy="180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608360" y="3949560"/>
              <a:ext cx="672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wn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335320" y="3903840"/>
              <a:ext cx="5230800" cy="144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527720" y="4357800"/>
              <a:ext cx="863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le 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335320" y="4284720"/>
              <a:ext cx="5230800" cy="144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927960" y="4740120"/>
              <a:ext cx="1828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ccess control li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335320" y="4667400"/>
              <a:ext cx="5230800" cy="144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335320" y="1533600"/>
              <a:ext cx="5257800" cy="4576680"/>
            </a:xfrm>
            <a:prstGeom prst="rect">
              <a:avLst/>
            </a:prstGeom>
            <a:noFill/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8.4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UNIX file system operation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11360" y="1639800"/>
            <a:ext cx="8530560" cy="4197600"/>
            <a:chOff x="711360" y="1639800"/>
            <a:chExt cx="8530560" cy="4197600"/>
          </a:xfrm>
        </p:grpSpPr>
        <p:sp>
          <p:nvSpPr>
            <p:cNvPr id="230" name=""/>
            <p:cNvSpPr/>
            <p:nvPr/>
          </p:nvSpPr>
          <p:spPr>
            <a:xfrm>
              <a:off x="738000" y="1757520"/>
              <a:ext cx="2431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filedes = open(name, mode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38360" y="1992240"/>
              <a:ext cx="2454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filedes = creat(name, mode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715200" y="1757520"/>
              <a:ext cx="376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Opens an existing file with the given </a:t>
              </a: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553520" y="175752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13400" y="1992240"/>
              <a:ext cx="3428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Creates a new file with the given </a:t>
              </a: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189920" y="199224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99720" y="2228760"/>
              <a:ext cx="5270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Both operations deliver a file descriptor referencing the ope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714480" y="2463840"/>
              <a:ext cx="3189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file. The </a:t>
              </a: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mode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ead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write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or both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11360" y="1639800"/>
              <a:ext cx="295740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1662120"/>
              <a:ext cx="22320" cy="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89280" y="1639800"/>
              <a:ext cx="180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11600" y="1639800"/>
              <a:ext cx="548496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689280" y="1662120"/>
              <a:ext cx="22320" cy="10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42680" y="2784600"/>
              <a:ext cx="190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status = close(filedes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719160" y="2784600"/>
              <a:ext cx="2383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Closes the open file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filedes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689280" y="2690640"/>
              <a:ext cx="22320" cy="32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39800" y="3106800"/>
              <a:ext cx="2681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count = read(filedes, buffer, n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40880" y="3427560"/>
              <a:ext cx="272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count = write(filedes, buffer, n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713400" y="3106800"/>
              <a:ext cx="5325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Transfers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bytes from the file referenced by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filedes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to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buffer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990280" y="310680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11960" y="3341520"/>
              <a:ext cx="5337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Transfers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bytes to the file referenced by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filedes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from buffer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707640" y="3578400"/>
              <a:ext cx="5534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Both operations deliver the number of bytes actually transferre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02600" y="3813120"/>
              <a:ext cx="3057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and advance the read-write pointer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689280" y="3011400"/>
              <a:ext cx="22320" cy="102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41240" y="4135320"/>
              <a:ext cx="2253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pos = lseek(filedes, offset,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032280" y="413532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556360" y="4370400"/>
              <a:ext cx="721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whence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263760" y="43704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327480" y="43704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731760" y="4135320"/>
              <a:ext cx="5119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Moves the read-write pointer to offset (relative or absolute,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716640" y="4370400"/>
              <a:ext cx="2003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depending on </a:t>
              </a: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whence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89280" y="4040280"/>
              <a:ext cx="22320" cy="55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71840" y="4691160"/>
              <a:ext cx="1911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status = unlink(name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713400" y="4691160"/>
              <a:ext cx="5338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Removes the file </a:t>
              </a: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from the directory structure. If the fil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65240" y="4927680"/>
              <a:ext cx="2824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has no other names, it is deleted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689280" y="4597560"/>
              <a:ext cx="22320" cy="55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72200" y="5248440"/>
              <a:ext cx="2490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status = link(name1, name2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710520" y="5248440"/>
              <a:ext cx="3952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Adds a new name (</a:t>
              </a: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name2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) for a file (</a:t>
              </a: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name1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618680" y="524844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689280" y="5154480"/>
              <a:ext cx="22320" cy="32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41600" y="5570640"/>
              <a:ext cx="2307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status = stat(name, buffer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717360" y="5570640"/>
              <a:ext cx="4100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Gets the file attributes for file </a:t>
              </a: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into </a:t>
              </a: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buffer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11360" y="5835600"/>
              <a:ext cx="295740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689280" y="5475240"/>
              <a:ext cx="22320" cy="32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89280" y="5835600"/>
              <a:ext cx="180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711600" y="5835600"/>
              <a:ext cx="548496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8.5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le service architectur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946080" y="1746360"/>
            <a:ext cx="8051760" cy="3725640"/>
            <a:chOff x="946080" y="1746360"/>
            <a:chExt cx="8051760" cy="3725640"/>
          </a:xfrm>
        </p:grpSpPr>
        <p:sp>
          <p:nvSpPr>
            <p:cNvPr id="278" name=""/>
            <p:cNvSpPr/>
            <p:nvPr/>
          </p:nvSpPr>
          <p:spPr>
            <a:xfrm>
              <a:off x="6111720" y="2028960"/>
              <a:ext cx="2860920" cy="34192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11720" y="2028960"/>
              <a:ext cx="2886120" cy="3443040"/>
            </a:xfrm>
            <a:prstGeom prst="rect">
              <a:avLst/>
            </a:prstGeom>
            <a:noFill/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946080" y="2028960"/>
              <a:ext cx="2862360" cy="34192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946080" y="2028960"/>
              <a:ext cx="2886120" cy="3443040"/>
            </a:xfrm>
            <a:prstGeom prst="rect">
              <a:avLst/>
            </a:prstGeom>
            <a:noFill/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92240" y="3216240"/>
              <a:ext cx="2593800" cy="21099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758960" y="1746360"/>
              <a:ext cx="1422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ient compu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827760" y="1746360"/>
              <a:ext cx="1500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 compu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051760" y="5254560"/>
              <a:ext cx="6541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51760" y="5205240"/>
              <a:ext cx="654120" cy="12096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051760" y="5156280"/>
              <a:ext cx="654120" cy="9828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051760" y="5084640"/>
              <a:ext cx="6541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318520" y="4648320"/>
              <a:ext cx="96840" cy="4842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11520" y="2101680"/>
              <a:ext cx="920880" cy="3249720"/>
            </a:xfrm>
            <a:prstGeom prst="ellipse">
              <a:avLst/>
            </a:prstGeom>
            <a:solidFill>
              <a:srgbClr val="ffdc99"/>
            </a:solidFill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092240" y="2125800"/>
              <a:ext cx="1066680" cy="10191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180800" y="2452680"/>
              <a:ext cx="995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287720" y="2670120"/>
              <a:ext cx="75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255760" y="2125800"/>
              <a:ext cx="1092240" cy="10191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358720" y="2452680"/>
              <a:ext cx="995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65640" y="2670120"/>
              <a:ext cx="75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915200" y="4100400"/>
              <a:ext cx="1242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ient modu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257880" y="2805120"/>
              <a:ext cx="2594160" cy="21099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081560" y="3689280"/>
              <a:ext cx="1357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lat file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257880" y="2125800"/>
              <a:ext cx="2594160" cy="60624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845400" y="2379600"/>
              <a:ext cx="1514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irectory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35360" y="3605040"/>
              <a:ext cx="2473200" cy="24300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227720" y="5254560"/>
              <a:ext cx="6541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227720" y="5205240"/>
              <a:ext cx="654120" cy="12096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227720" y="5156280"/>
              <a:ext cx="654120" cy="9828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227720" y="5084640"/>
              <a:ext cx="6541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494480" y="4648320"/>
              <a:ext cx="96840" cy="4842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402240" y="5254560"/>
              <a:ext cx="6559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402240" y="5205240"/>
              <a:ext cx="655920" cy="12096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402240" y="5156280"/>
              <a:ext cx="655920" cy="9828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402240" y="5084640"/>
              <a:ext cx="6559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694560" y="4648320"/>
              <a:ext cx="96840" cy="4842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8.6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lat file service operation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685800" y="2144880"/>
            <a:ext cx="8504280" cy="2910600"/>
            <a:chOff x="685800" y="2144880"/>
            <a:chExt cx="8504280" cy="2910600"/>
          </a:xfrm>
        </p:grpSpPr>
        <p:sp>
          <p:nvSpPr>
            <p:cNvPr id="315" name=""/>
            <p:cNvSpPr/>
            <p:nvPr/>
          </p:nvSpPr>
          <p:spPr>
            <a:xfrm>
              <a:off x="717480" y="2270160"/>
              <a:ext cx="2526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Read(FileId, i, n) -&gt; Dat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912040" y="227016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89480" y="2523960"/>
              <a:ext cx="275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062360" y="2523960"/>
              <a:ext cx="655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644480" y="2523960"/>
              <a:ext cx="1253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BadPositio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651480" y="2270160"/>
              <a:ext cx="5538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1 ≤ i ≤ Length(File)</a:t>
              </a: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: Reads a sequence of up to </a:t>
              </a: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 item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651120" y="2523960"/>
              <a:ext cx="484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from a file starting at item </a:t>
              </a: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 and returns it in </a:t>
              </a: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85800" y="2144880"/>
              <a:ext cx="291312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621240" y="2144880"/>
              <a:ext cx="144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645000" y="2144880"/>
              <a:ext cx="550044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621240" y="2166840"/>
              <a:ext cx="23760" cy="60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17840" y="2871720"/>
              <a:ext cx="2079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Write(FileId, i, Data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726280" y="287172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89480" y="3125880"/>
              <a:ext cx="275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062360" y="3125880"/>
              <a:ext cx="655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644480" y="3125880"/>
              <a:ext cx="1253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BadPositio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651840" y="2871720"/>
              <a:ext cx="552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1 ≤ i ≤ Length(File)+1</a:t>
              </a: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: Writes a sequence of </a:t>
              </a: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 to 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650040" y="3125880"/>
              <a:ext cx="5092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file, starting at item </a:t>
              </a: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, extending the file if necessary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621240" y="2768760"/>
              <a:ext cx="23760" cy="59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18560" y="3471840"/>
              <a:ext cx="177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Create() -&gt; FileId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596400" y="3471840"/>
              <a:ext cx="5461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Creates a new file of length 0 and delivers a UFID for it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944560" y="347184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621240" y="3368520"/>
              <a:ext cx="23760" cy="34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18200" y="3817800"/>
              <a:ext cx="1379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Delete(FileId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030400" y="38178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098800" y="38178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656880" y="3817800"/>
              <a:ext cx="3490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Removes the file from the file store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621240" y="3714840"/>
              <a:ext cx="23760" cy="34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18200" y="4165560"/>
              <a:ext cx="2789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GetAttributes(FileId) -&gt; Att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208320" y="416556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278160" y="416556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655800" y="4165560"/>
              <a:ext cx="3585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Returns the file attributes for the file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87040" y="416556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621240" y="4062240"/>
              <a:ext cx="23760" cy="34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7480" y="4511520"/>
              <a:ext cx="2492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SetAttributes(FileId, Attr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186000" y="451152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254400" y="451152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635280" y="4511520"/>
              <a:ext cx="5337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Sets the file attributes (only those attributes that are no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674880" y="4765680"/>
              <a:ext cx="1119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shaded in )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85800" y="5046840"/>
              <a:ext cx="291312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621240" y="4408560"/>
              <a:ext cx="2376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621240" y="5046840"/>
              <a:ext cx="144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645000" y="5046840"/>
              <a:ext cx="550044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8.7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irectory service operation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681120" y="2162160"/>
            <a:ext cx="8570880" cy="2995560"/>
            <a:chOff x="681120" y="2162160"/>
            <a:chExt cx="8570880" cy="2995560"/>
          </a:xfrm>
        </p:grpSpPr>
        <p:sp>
          <p:nvSpPr>
            <p:cNvPr id="360" name=""/>
            <p:cNvSpPr/>
            <p:nvPr/>
          </p:nvSpPr>
          <p:spPr>
            <a:xfrm>
              <a:off x="706680" y="2278080"/>
              <a:ext cx="2563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Lookup(Dir, Name) -&gt; FileI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0640" y="251316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—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924840" y="25131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988200" y="2513160"/>
              <a:ext cx="58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562400" y="2513160"/>
              <a:ext cx="933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otFoun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480040" y="251316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201920" y="2278080"/>
              <a:ext cx="4606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Locates the text name in the directory and returns t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99040" y="2513160"/>
              <a:ext cx="4930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relevant UFID. If </a:t>
              </a: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is not in the directory, throws a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206960" y="2747880"/>
              <a:ext cx="895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xception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082120" y="274788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81120" y="2162160"/>
              <a:ext cx="347508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76720" y="2184480"/>
              <a:ext cx="22320" cy="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76720" y="2162160"/>
              <a:ext cx="144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99040" y="2162160"/>
              <a:ext cx="505296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76720" y="2184480"/>
              <a:ext cx="22320" cy="78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05600" y="3067200"/>
              <a:ext cx="237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AddName(Dir, Name, File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013560" y="306720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10640" y="330192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988200" y="3301920"/>
              <a:ext cx="58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561320" y="3301920"/>
              <a:ext cx="1413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Duplica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927880" y="330192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200120" y="3067200"/>
              <a:ext cx="4816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is not in the directory, adds (</a:t>
              </a: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) to t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203360" y="3301920"/>
              <a:ext cx="4110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directory and updates the file’s attribute record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00480" y="3537000"/>
              <a:ext cx="487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is already in the directory: throws an exception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984160" y="353700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176720" y="2973600"/>
              <a:ext cx="22320" cy="78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06320" y="3855960"/>
              <a:ext cx="183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UnName(Dir, Name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480040" y="385596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10640" y="409104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988200" y="4091040"/>
              <a:ext cx="58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562400" y="4091040"/>
              <a:ext cx="933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otFoun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480040" y="409104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202280" y="3855960"/>
              <a:ext cx="4878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is in the directory: the entry containing </a:t>
              </a: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i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204800" y="4091040"/>
              <a:ext cx="243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removed from the directory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553800" y="409104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201560" y="4326120"/>
              <a:ext cx="451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is not in the directory: throws an exception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685720" y="432612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176720" y="3760920"/>
              <a:ext cx="22320" cy="78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04880" y="4645080"/>
              <a:ext cx="3249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GetNames(Dir, Pattern) -&gt; NameSeq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631320" y="46450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696480" y="46450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203720" y="4645080"/>
              <a:ext cx="4898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Returns all the text names in the directory that match t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205520" y="4880160"/>
              <a:ext cx="234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regular expression </a:t>
              </a: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Pattern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81120" y="5156280"/>
              <a:ext cx="34750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176720" y="4549680"/>
              <a:ext cx="22320" cy="55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176720" y="5156280"/>
              <a:ext cx="14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199040" y="5156280"/>
              <a:ext cx="505296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8.8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FS architectur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401400" y="1606680"/>
            <a:ext cx="8867880" cy="4168800"/>
            <a:chOff x="401400" y="1606680"/>
            <a:chExt cx="8867880" cy="4168800"/>
          </a:xfrm>
        </p:grpSpPr>
        <p:sp>
          <p:nvSpPr>
            <p:cNvPr id="409" name=""/>
            <p:cNvSpPr/>
            <p:nvPr/>
          </p:nvSpPr>
          <p:spPr>
            <a:xfrm>
              <a:off x="6551640" y="1892160"/>
              <a:ext cx="2693880" cy="385920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551640" y="1892160"/>
              <a:ext cx="2717640" cy="3883320"/>
            </a:xfrm>
            <a:prstGeom prst="rect">
              <a:avLst/>
            </a:prstGeom>
            <a:noFill/>
            <a:ln w="3348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733400" y="1892160"/>
              <a:ext cx="2694240" cy="385920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733400" y="1892160"/>
              <a:ext cx="2718000" cy="3883320"/>
            </a:xfrm>
            <a:prstGeom prst="rect">
              <a:avLst/>
            </a:prstGeom>
            <a:noFill/>
            <a:ln w="3348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825560" y="3218040"/>
              <a:ext cx="2443320" cy="19857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825560" y="3218040"/>
              <a:ext cx="2465280" cy="2008080"/>
            </a:xfrm>
            <a:prstGeom prst="rect">
              <a:avLst/>
            </a:prstGeom>
            <a:noFill/>
            <a:ln w="3348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24440" y="3473280"/>
              <a:ext cx="1031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UNIX kerne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176720" y="4495680"/>
              <a:ext cx="1096920" cy="11448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4320" y="5546880"/>
              <a:ext cx="639720" cy="114120"/>
            </a:xfrm>
            <a:prstGeom prst="ellipse">
              <a:avLst/>
            </a:prstGeom>
            <a:solidFill>
              <a:srgbClr val="ffffff"/>
            </a:solidFill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984320" y="5500800"/>
              <a:ext cx="639720" cy="114120"/>
            </a:xfrm>
            <a:prstGeom prst="ellipse">
              <a:avLst/>
            </a:prstGeom>
            <a:solidFill>
              <a:srgbClr val="ffffff"/>
            </a:solidFill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984320" y="5454720"/>
              <a:ext cx="639720" cy="92160"/>
            </a:xfrm>
            <a:prstGeom prst="ellipse">
              <a:avLst/>
            </a:prstGeom>
            <a:solidFill>
              <a:srgbClr val="ffffff"/>
            </a:solidFill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984320" y="5386320"/>
              <a:ext cx="639720" cy="114480"/>
            </a:xfrm>
            <a:prstGeom prst="ellipse">
              <a:avLst/>
            </a:prstGeom>
            <a:solidFill>
              <a:srgbClr val="ffffff"/>
            </a:solidFill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259000" y="4998960"/>
              <a:ext cx="92160" cy="43344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507200" y="5122800"/>
              <a:ext cx="683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protoco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466720" y="1606680"/>
              <a:ext cx="1341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lient compute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236360" y="1606680"/>
              <a:ext cx="1416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erver compute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940040" y="4084560"/>
              <a:ext cx="776160" cy="10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940040" y="4084560"/>
              <a:ext cx="798480" cy="105084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01400" y="2994120"/>
              <a:ext cx="1044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ystem call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410200" y="3838680"/>
              <a:ext cx="459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Loca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896640" y="3838680"/>
              <a:ext cx="669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mot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305080" y="3925800"/>
              <a:ext cx="46080" cy="112680"/>
            </a:xfrm>
            <a:custGeom>
              <a:avLst/>
              <a:gdLst/>
              <a:ahLst/>
              <a:rect l="l" t="t" r="r" b="b"/>
              <a:pathLst>
                <a:path w="29" h="71">
                  <a:moveTo>
                    <a:pt x="14" y="0"/>
                  </a:moveTo>
                  <a:lnTo>
                    <a:pt x="29" y="0"/>
                  </a:lnTo>
                  <a:lnTo>
                    <a:pt x="14" y="71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2327400" y="3787560"/>
              <a:ext cx="1440" cy="1378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789360" y="3948120"/>
              <a:ext cx="44280" cy="114120"/>
            </a:xfrm>
            <a:custGeom>
              <a:avLst/>
              <a:gdLst/>
              <a:ahLst/>
              <a:rect l="l" t="t" r="r" b="b"/>
              <a:pathLst>
                <a:path w="28" h="72">
                  <a:moveTo>
                    <a:pt x="14" y="0"/>
                  </a:moveTo>
                  <a:lnTo>
                    <a:pt x="28" y="0"/>
                  </a:lnTo>
                  <a:lnTo>
                    <a:pt x="14" y="72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3811680" y="3787560"/>
              <a:ext cx="1440" cy="1602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167200" y="4346640"/>
              <a:ext cx="45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UNIX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261160" y="4551480"/>
              <a:ext cx="24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fil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091960" y="475776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688080" y="3218040"/>
              <a:ext cx="2443320" cy="19857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379000" y="5546880"/>
              <a:ext cx="615600" cy="114120"/>
            </a:xfrm>
            <a:prstGeom prst="ellipse">
              <a:avLst/>
            </a:prstGeom>
            <a:solidFill>
              <a:srgbClr val="ffffff"/>
            </a:solidFill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379000" y="5500800"/>
              <a:ext cx="615600" cy="114120"/>
            </a:xfrm>
            <a:prstGeom prst="ellipse">
              <a:avLst/>
            </a:prstGeom>
            <a:solidFill>
              <a:srgbClr val="ffffff"/>
            </a:solidFill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379000" y="5454720"/>
              <a:ext cx="615600" cy="92160"/>
            </a:xfrm>
            <a:prstGeom prst="ellipse">
              <a:avLst/>
            </a:prstGeom>
            <a:solidFill>
              <a:srgbClr val="ffffff"/>
            </a:solidFill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379000" y="5386320"/>
              <a:ext cx="615600" cy="114480"/>
            </a:xfrm>
            <a:prstGeom prst="ellipse">
              <a:avLst/>
            </a:prstGeom>
            <a:solidFill>
              <a:srgbClr val="ffffff"/>
            </a:solidFill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629560" y="4975200"/>
              <a:ext cx="90720" cy="4572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145280" y="3855960"/>
              <a:ext cx="46080" cy="114480"/>
            </a:xfrm>
            <a:custGeom>
              <a:avLst/>
              <a:gdLst/>
              <a:ahLst/>
              <a:rect l="l" t="t" r="r" b="b"/>
              <a:pathLst>
                <a:path w="29" h="72">
                  <a:moveTo>
                    <a:pt x="14" y="72"/>
                  </a:moveTo>
                  <a:lnTo>
                    <a:pt x="0" y="72"/>
                  </a:lnTo>
                  <a:lnTo>
                    <a:pt x="14" y="0"/>
                  </a:lnTo>
                  <a:lnTo>
                    <a:pt x="29" y="72"/>
                  </a:lnTo>
                  <a:lnTo>
                    <a:pt x="14" y="72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167600" y="3970440"/>
              <a:ext cx="1440" cy="1378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629560" y="3925800"/>
              <a:ext cx="46080" cy="112680"/>
            </a:xfrm>
            <a:custGeom>
              <a:avLst/>
              <a:gdLst/>
              <a:ahLst/>
              <a:rect l="l" t="t" r="r" b="b"/>
              <a:pathLst>
                <a:path w="29" h="71">
                  <a:moveTo>
                    <a:pt x="14" y="0"/>
                  </a:moveTo>
                  <a:lnTo>
                    <a:pt x="29" y="0"/>
                  </a:lnTo>
                  <a:lnTo>
                    <a:pt x="14" y="71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8651880" y="3811320"/>
              <a:ext cx="1440" cy="11412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775480" y="4495680"/>
              <a:ext cx="1050840" cy="11448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159520" y="3422520"/>
              <a:ext cx="661680" cy="2306880"/>
            </a:xfrm>
            <a:prstGeom prst="ellipse">
              <a:avLst/>
            </a:prstGeom>
            <a:solidFill>
              <a:srgbClr val="d9aa73"/>
            </a:solidFill>
            <a:ln w="3348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551640" y="4495680"/>
              <a:ext cx="204840" cy="114480"/>
            </a:xfrm>
            <a:custGeom>
              <a:avLst/>
              <a:gdLst/>
              <a:ahLst/>
              <a:rect l="l" t="t" r="r" b="b"/>
              <a:pathLst>
                <a:path w="129" h="72">
                  <a:moveTo>
                    <a:pt x="0" y="43"/>
                  </a:moveTo>
                  <a:lnTo>
                    <a:pt x="0" y="0"/>
                  </a:lnTo>
                  <a:lnTo>
                    <a:pt x="129" y="43"/>
                  </a:lnTo>
                  <a:lnTo>
                    <a:pt x="0" y="72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176720" y="4564080"/>
              <a:ext cx="237492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400560" y="4084560"/>
              <a:ext cx="776160" cy="10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400560" y="4084560"/>
              <a:ext cx="799920" cy="105084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667680" y="4437000"/>
              <a:ext cx="380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NF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610080" y="4643280"/>
              <a:ext cx="448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02560" y="4084560"/>
              <a:ext cx="776160" cy="10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802560" y="4084560"/>
              <a:ext cx="799920" cy="105084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069680" y="4437000"/>
              <a:ext cx="380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NF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968520" y="4643280"/>
              <a:ext cx="534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286840" y="4084560"/>
              <a:ext cx="776160" cy="10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286840" y="4084560"/>
              <a:ext cx="799920" cy="105084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8493480" y="4346640"/>
              <a:ext cx="45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UNIX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585640" y="4551480"/>
              <a:ext cx="24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fil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416440" y="475776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825560" y="2075040"/>
              <a:ext cx="1027080" cy="9601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917720" y="2382840"/>
              <a:ext cx="938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021760" y="2587680"/>
              <a:ext cx="713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944800" y="2075040"/>
              <a:ext cx="1027080" cy="9601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041640" y="2382840"/>
              <a:ext cx="938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147480" y="2587680"/>
              <a:ext cx="713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305080" y="2943360"/>
              <a:ext cx="114120" cy="36504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378240" y="2943360"/>
              <a:ext cx="114120" cy="36504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504800" y="3103560"/>
              <a:ext cx="84636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482840" y="3583080"/>
              <a:ext cx="36504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681800" y="4916520"/>
              <a:ext cx="380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NF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4748040" y="4609800"/>
              <a:ext cx="1800" cy="2286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30440" y="2811600"/>
              <a:ext cx="45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UNIX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228280" y="3198960"/>
              <a:ext cx="1031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UNIX kerne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276960" y="3308400"/>
              <a:ext cx="3430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780240" y="3514680"/>
              <a:ext cx="2260440" cy="29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780240" y="3514680"/>
              <a:ext cx="2282760" cy="31896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173000" y="3541680"/>
              <a:ext cx="1501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Virtual file syste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806560" y="4084560"/>
              <a:ext cx="525600" cy="10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806560" y="4084560"/>
              <a:ext cx="547920" cy="105084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035160" y="3925800"/>
              <a:ext cx="46080" cy="112680"/>
            </a:xfrm>
            <a:custGeom>
              <a:avLst/>
              <a:gdLst/>
              <a:ahLst/>
              <a:rect l="l" t="t" r="r" b="b"/>
              <a:pathLst>
                <a:path w="29" h="71">
                  <a:moveTo>
                    <a:pt x="14" y="0"/>
                  </a:moveTo>
                  <a:lnTo>
                    <a:pt x="29" y="0"/>
                  </a:lnTo>
                  <a:lnTo>
                    <a:pt x="14" y="71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V="1">
              <a:off x="3057480" y="3787560"/>
              <a:ext cx="1800" cy="1378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940040" y="3514680"/>
              <a:ext cx="2260440" cy="29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940040" y="3514680"/>
              <a:ext cx="2282760" cy="31896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09040" y="3541680"/>
              <a:ext cx="1501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Virtual file syste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16200000">
              <a:off x="2619360" y="4417920"/>
              <a:ext cx="8967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file syst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8T21:59:47Z</dcterms:created>
  <dc:creator>George Coulouris</dc:creator>
  <dc:description/>
  <dc:language>en-US</dc:language>
  <cp:lastModifiedBy>Jean Dollimore</cp:lastModifiedBy>
  <cp:lastPrinted>2000-11-12T21:05:10Z</cp:lastPrinted>
  <dcterms:modified xsi:type="dcterms:W3CDTF">2000-11-20T17:16:13Z</dcterms:modified>
  <cp:revision>55</cp:revision>
  <dc:subject/>
  <dc:title>Figure 15.1 A distributed multimedia system</dc:title>
</cp:coreProperties>
</file>